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BC6-5633-4DF6-82C4-1C93C6F0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B21-8282-414C-B497-25978EFC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F41-71B0-4171-AB1A-516DEE3D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B8D-E9EA-491A-A684-5CFCF6E7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4790-4D71-40B6-834F-9AA5CF51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4D56-6DF0-47AD-8FE9-9DDA3394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1E30-6EF8-4CA1-83BE-6716F33A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D824-DC96-410F-903D-1C6F056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EB3D-B7C9-4999-9AEB-61CF4A26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5F34-B5BD-4260-BAD6-03643C37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EB2B-DB0B-4338-93D3-FE808634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545-8A76-4284-B895-F9B644F8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7973-CCD2-4CF9-91B0-53E9B3E3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D584-14CB-40F6-AE62-E2E3E5F5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9DCB-4BA8-4890-94D1-E28F015F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9AF6-7FC6-4A36-B60B-B7575B3D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D646-FD93-494B-AC38-6DD268E4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57E5-E4F8-4F26-B3F9-48404F7C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B289-3725-41DE-9D33-AE586BD9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7339-30B3-4578-ADAC-26727F3F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B5A1-E90A-4478-992B-36F268A3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4C59C-AA50-4891-B337-58977040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E36-04BD-40D4-85B0-965C1B5C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5A16-3851-4899-8E07-C46947BD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590B-F3FB-4869-A0A1-171BFD36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B4F50-6E9E-4FBD-AD03-847DC35F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90CA-77BC-4A68-B20C-60E9A618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92B2-8764-4C65-A7A1-DDC441A9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0628-83D1-4A29-BA2F-8F6B08A6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5961-0EBD-4998-AECF-D88CCBCC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A7771-89C0-46F6-9DFE-073524DE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A7768-8253-4666-874D-7F924E46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542CA-3779-4CFE-8DD7-EA6EA7FC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BE9-6E23-42BC-8AE6-01951ABD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DE298-2A9F-4ECB-9EFC-1DEC54DA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8768-BC5B-4B82-B10D-47CA3705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AD54C-E685-4DB3-8B66-380CDEF6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A99D1-95AD-4113-A420-1D19E20D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14C7-3181-4F08-A0FF-53F97506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0263D-ADD9-4249-8898-40B5ED0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977B4-F308-438D-A368-E763B539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41A2C-E595-4292-B17A-A48526AE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9FD50-8498-4614-BDD7-CA3C5427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D17D-F8B0-4B00-97C2-9A6FD7B8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30D-EA74-4963-B730-7405D22A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1BF0E-971D-4E9A-B8AA-2E1C8EA9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3BDA6-4593-49E6-B86A-A20F5683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3D603-EB81-43DC-BB1A-A7B1DE07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54FE8-9CB7-45B2-AE43-7BE92583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0EE0A-1593-4EBF-A0C3-84394A31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9188F-046D-4ACE-900D-FD9B00A1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E8D8F-9439-4042-8ABB-10D26F78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B7A1B-F323-4BAC-B452-4D17C1F3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982AC-1F0E-40DB-B044-99F447B3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19AC9-0E6E-48A0-89AD-88CB87B3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788-5157-4280-86BA-10F4335B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00411-ED30-46BB-9945-F9CBC2E2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10AA0-E68C-4881-88EA-7D428824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52D7-B134-421D-87A0-7EBB0D8E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80D7-7794-4744-8B29-805CC5E3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C041D-77A0-4AE8-98F8-7ED27609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2F54-1F35-4452-B19B-25F7EE08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53389-F86F-40FD-97EC-3B9D5470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17F4B-0670-42DD-BCD9-6D6B3F98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27ED8-E41C-4EBF-B654-E320552F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00B4F-2B0A-4E6D-882C-395D9603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651-40BE-49B1-91BF-955CCE8B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2ACD7-DCEB-4159-8C6A-690A02D7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2CF26-1A4A-4FDC-9A54-892C704B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8AC67-0633-41F5-915A-4E0EC4C2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51BAC-C3A6-44D1-A962-2E5772B0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A03A3-DD26-4098-B610-D5660441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68ED8-23F7-47AF-BE47-C839193C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B770-2A2F-4797-A70D-64B3DDBF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2342A-8AE4-4931-B656-93E5F576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854CE-AAD3-4887-94D0-67BC7E1D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73FA8-220A-45C0-84FF-949F2A46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42B-8CAC-41E8-9E17-992DC9E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9019F-07D7-483A-A03A-3B255CF1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BFD9-8AA1-429F-B285-9C0A838D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CC00A-B536-4B2E-A431-E57FA579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2A555-4037-4C34-ADAA-C8DE344A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5DD23-6031-4DD8-B814-A3CB2A6C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688-B1C0-416A-B891-E7F426D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3ADF-CB17-4D75-8147-9341B25B0A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DD49-886C-478F-9F7E-9AC449325A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BEA2-B5DA-4C92-9BD7-F15E9D12C6F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00CF-DC08-4C7D-88FA-7B75E5DB826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6809-EFD1-47A9-B98E-12FA2D982C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8417-D546-4DE5-909A-FCFDC25C72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F9F3-7F59-4312-A49F-54E3B905D5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ВОЙНЫЕ   СОГЛАСНЫ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57200" y="1428480"/>
            <a:ext cx="7407360" cy="93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В   КАКИХ   СЛОВАХ   ПИШЕТСЯ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                      </a:t>
            </a: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ДВОЙНАЯ   СОГЛАСНАЯ   </a:t>
            </a:r>
            <a:r>
              <a:rPr b="0" lang="ru-RU" sz="2600" spc="-1" strike="noStrike">
                <a:solidFill>
                  <a:srgbClr val="4b3e21"/>
                </a:solidFill>
                <a:latin typeface="Corbel"/>
              </a:rPr>
              <a:t>«</a:t>
            </a:r>
            <a:r>
              <a:rPr b="1" lang="ru-RU" sz="2600" spc="-1" strike="noStrike">
                <a:solidFill>
                  <a:srgbClr val="4b3e21"/>
                </a:solidFill>
                <a:latin typeface="Corbel"/>
              </a:rPr>
              <a:t>С</a:t>
            </a:r>
            <a:r>
              <a:rPr b="0" lang="ru-RU" sz="2600" spc="-1" strike="noStrike">
                <a:solidFill>
                  <a:srgbClr val="4b3e21"/>
                </a:solidFill>
                <a:latin typeface="Corbel"/>
              </a:rPr>
              <a:t>» </a:t>
            </a: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500120" y="32148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КРАС…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1500120" y="42148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МАС…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1500120" y="51436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…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5214960" y="32148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КАС…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7"/>
          <p:cNvSpPr/>
          <p:nvPr/>
        </p:nvSpPr>
        <p:spPr>
          <a:xfrm>
            <a:off x="5214960" y="42148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РУС…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5214960" y="521496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МАТРОС…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635796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0"/>
          <p:cNvSpPr/>
          <p:nvPr/>
        </p:nvSpPr>
        <p:spPr>
          <a:xfrm>
            <a:off x="2714760" y="51436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6357960" y="4214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ВОЙНЫЕ   СОГЛАСНЫ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57200" y="1428480"/>
            <a:ext cx="7407360" cy="93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В   КАКИХ   СЛОВАХ   НЕ  ПИШЕТСЯ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                      </a:t>
            </a: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ДВОЙНАЯ   СОГЛАСНАЯ   </a:t>
            </a:r>
            <a:r>
              <a:rPr b="0" lang="ru-RU" sz="2600" spc="-1" strike="noStrike">
                <a:solidFill>
                  <a:srgbClr val="4b3e21"/>
                </a:solidFill>
                <a:latin typeface="Corbel"/>
              </a:rPr>
              <a:t>«</a:t>
            </a:r>
            <a:r>
              <a:rPr b="1" lang="ru-RU" sz="2600" spc="-1" strike="noStrike">
                <a:solidFill>
                  <a:srgbClr val="4b3e21"/>
                </a:solidFill>
                <a:latin typeface="Corbel"/>
              </a:rPr>
              <a:t>С</a:t>
            </a:r>
            <a:r>
              <a:rPr b="0" lang="ru-RU" sz="2600" spc="-1" strike="noStrike">
                <a:solidFill>
                  <a:srgbClr val="4b3e21"/>
                </a:solidFill>
                <a:latin typeface="Corbel"/>
              </a:rPr>
              <a:t>» </a:t>
            </a: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1500120" y="321480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С…ОРИЛ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00120" y="42148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КЛАС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500120" y="51436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НАПИС…АЛ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"/>
          <p:cNvSpPr/>
          <p:nvPr/>
        </p:nvSpPr>
        <p:spPr>
          <a:xfrm>
            <a:off x="5214960" y="321480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ПАС…АЖИ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5214960" y="42148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КОМИС…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5286240" y="51436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ШОС…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9"/>
          <p:cNvSpPr/>
          <p:nvPr/>
        </p:nvSpPr>
        <p:spPr>
          <a:xfrm>
            <a:off x="635796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264312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1"/>
          <p:cNvSpPr/>
          <p:nvPr/>
        </p:nvSpPr>
        <p:spPr>
          <a:xfrm>
            <a:off x="2928960" y="4214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2"/>
          <p:cNvSpPr/>
          <p:nvPr/>
        </p:nvSpPr>
        <p:spPr>
          <a:xfrm>
            <a:off x="7000920" y="4214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6643800" y="51436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ВОЙНЫЕ   СОГЛАСНЫ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57200" y="1428480"/>
            <a:ext cx="7407360" cy="93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В   КАКИХ   СЛОВАХ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                                  </a:t>
            </a: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ДОПУЩЕНА  ОШИБКА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TextBox 3"/>
          <p:cNvSpPr/>
          <p:nvPr/>
        </p:nvSpPr>
        <p:spPr>
          <a:xfrm>
            <a:off x="1500120" y="32148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АЛЕ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1500120" y="42148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УБ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1500120" y="51436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ТРОЛЛЕЙБУ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5214960" y="32148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СТРАНН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5214960" y="42148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АНТЕНН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5214960" y="521496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ГРУПП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1500120" y="32148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5214960" y="32148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СТРАН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ВОЙНЫЕ   СОГЛАСНЫ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357200" y="1428480"/>
            <a:ext cx="7407360" cy="93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В   КАКИХ   СЛОВАХ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                                   </a:t>
            </a: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ДОПУЩЕНА  ОШИБКА</a:t>
            </a:r>
            <a:r>
              <a:rPr b="0" lang="ru-RU" sz="2600" spc="-1" strike="noStrike">
                <a:solidFill>
                  <a:srgbClr val="4b3e21"/>
                </a:solidFill>
                <a:latin typeface="Corbel"/>
              </a:rPr>
              <a:t> </a:t>
            </a:r>
            <a:r>
              <a:rPr b="0" i="1" lang="ru-RU" sz="2600" spc="-1" strike="noStrike">
                <a:solidFill>
                  <a:srgbClr val="4b3e21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1500120" y="32148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ВЕСЕН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1500120" y="4214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ЗИММНИ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1500120" y="51436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ОСЕН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5214960" y="32148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УТРЕН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5214960" y="4214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ПОЗДН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5214960" y="52149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РАН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9"/>
          <p:cNvSpPr/>
          <p:nvPr/>
        </p:nvSpPr>
        <p:spPr>
          <a:xfrm>
            <a:off x="1500120" y="4214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ЗИМНИ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5214960" y="4214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ПОЗД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ВОЙНЫЕ   СОГЛАСНЫ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57200" y="1428480"/>
            <a:ext cx="7407360" cy="93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КАКИЕ   ИМЕНА  ЛЮДЕЙ   ПИШУТСЯ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                          </a:t>
            </a: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С   ДВОЙНОЙ  СОГЛАСНОЙ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1500120" y="32148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1500120" y="42148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1500120" y="514368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5214960" y="32148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5214960" y="42148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521496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9"/>
          <p:cNvSpPr/>
          <p:nvPr/>
        </p:nvSpPr>
        <p:spPr>
          <a:xfrm>
            <a:off x="2627280" y="33577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0"/>
          <p:cNvSpPr/>
          <p:nvPr/>
        </p:nvSpPr>
        <p:spPr>
          <a:xfrm>
            <a:off x="2627280" y="4365720"/>
            <a:ext cx="42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1"/>
          <p:cNvSpPr/>
          <p:nvPr/>
        </p:nvSpPr>
        <p:spPr>
          <a:xfrm>
            <a:off x="6659640" y="33577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2"/>
          <p:cNvSpPr/>
          <p:nvPr/>
        </p:nvSpPr>
        <p:spPr>
          <a:xfrm>
            <a:off x="2627280" y="53006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ВОЙНЫЕ   СОГЛАСНЫ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57200" y="1428480"/>
            <a:ext cx="7407360" cy="93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КАКИЕ   ИМЕНА  ЛЮДЕЙ   ПИШУТСЯ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                         </a:t>
            </a: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С   ДВОЙНОЙ  СОГЛАСНОЙ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1500120" y="32148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1500120" y="42148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1500120" y="514368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Фили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5214960" y="3214800"/>
            <a:ext cx="3357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л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5214960" y="4214880"/>
            <a:ext cx="307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521496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9"/>
          <p:cNvSpPr/>
          <p:nvPr/>
        </p:nvSpPr>
        <p:spPr>
          <a:xfrm>
            <a:off x="3276720" y="4365720"/>
            <a:ext cx="35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0"/>
          <p:cNvSpPr/>
          <p:nvPr/>
        </p:nvSpPr>
        <p:spPr>
          <a:xfrm>
            <a:off x="3143160" y="5286240"/>
            <a:ext cx="42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5:19:32Z</dcterms:created>
  <dc:creator>Игорь Саченко</dc:creator>
  <dc:description/>
  <dc:language>en-US</dc:language>
  <cp:lastModifiedBy>Игорь Саченко</cp:lastModifiedBy>
  <dcterms:modified xsi:type="dcterms:W3CDTF">2009-01-26T03:04:51Z</dcterms:modified>
  <cp:revision>10</cp:revision>
  <dc:subject/>
  <dc:title>ДВОЙНЫЕ   СОГЛАСНЫЕ</dc:title>
</cp:coreProperties>
</file>